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996-0720-400C-B606-70C6731F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E2E-3F0E-4DB1-9815-2C5F2F6E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A02-4EC7-49D9-A1ED-771C7C7D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C15-325C-4DD7-A89C-E32E4D30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822-0C87-4029-B19B-51280D6B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429-875E-4BA6-88C3-50C43058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63B-6B6C-45B8-B553-519E1A78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B49A-5D46-4C88-B064-23E38FE8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808-F9BD-4A7E-8246-D4CFF506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B8B-1451-4849-B281-64FF8377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3EC-9E91-4D1F-8061-66532A7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1D7-57ED-4E60-A1FB-27FAE36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5B0F-21EC-4009-A933-0E0D7C6EB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8"/>
          <p:cNvSpPr/>
          <p:nvPr/>
        </p:nvSpPr>
        <p:spPr>
          <a:xfrm>
            <a:off x="395280" y="189000"/>
            <a:ext cx="2232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ting to the Wharf for the Dinner Cru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116000" y="4508640"/>
            <a:ext cx="28796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V PROCLAIM” due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urn ~11:30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pera House drop off possible ~10:45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627280" y="2997000"/>
            <a:ext cx="43200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2410920" y="3716280"/>
            <a:ext cx="730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2556000" y="3068640"/>
            <a:ext cx="7128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8"/>
          <p:cNvSpPr/>
          <p:nvPr/>
        </p:nvSpPr>
        <p:spPr>
          <a:xfrm>
            <a:off x="2556000" y="2060640"/>
            <a:ext cx="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 flipH="1">
            <a:off x="2268360" y="3718080"/>
            <a:ext cx="144720" cy="358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2484000" y="2854440"/>
            <a:ext cx="73080" cy="57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7" descr="MMj02053750000[1]"/>
          <p:cNvPicPr/>
          <p:nvPr/>
        </p:nvPicPr>
        <p:blipFill>
          <a:blip r:embed="rId2"/>
          <a:stretch/>
        </p:blipFill>
        <p:spPr>
          <a:xfrm>
            <a:off x="3780000" y="5180040"/>
            <a:ext cx="216036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8"/>
          <p:cNvSpPr/>
          <p:nvPr/>
        </p:nvSpPr>
        <p:spPr>
          <a:xfrm>
            <a:off x="4211640" y="6093000"/>
            <a:ext cx="1081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ME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1" descr="MMj02544490000[1]"/>
          <p:cNvPicPr/>
          <p:nvPr/>
        </p:nvPicPr>
        <p:blipFill>
          <a:blip r:embed="rId3"/>
          <a:stretch/>
        </p:blipFill>
        <p:spPr>
          <a:xfrm>
            <a:off x="324000" y="3460680"/>
            <a:ext cx="172872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H="1" flipV="1">
            <a:off x="2627280" y="2997000"/>
            <a:ext cx="43200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2556000" y="2060640"/>
            <a:ext cx="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 flipV="1">
            <a:off x="2627280" y="2997000"/>
            <a:ext cx="43200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 flipH="1">
            <a:off x="2556000" y="3068640"/>
            <a:ext cx="7128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2556000" y="2060640"/>
            <a:ext cx="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 flipH="1">
            <a:off x="2484000" y="2854440"/>
            <a:ext cx="73080" cy="57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2627280" y="2997000"/>
            <a:ext cx="43200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 flipH="1">
            <a:off x="2410920" y="3716280"/>
            <a:ext cx="730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2556000" y="3068640"/>
            <a:ext cx="7128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2556000" y="2060640"/>
            <a:ext cx="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 flipH="1">
            <a:off x="2268360" y="3718080"/>
            <a:ext cx="144720" cy="358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 flipH="1">
            <a:off x="2484000" y="2854440"/>
            <a:ext cx="73080" cy="57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3:39:34Z</dcterms:created>
  <dc:creator>Kim Stanton-Cook</dc:creator>
  <dc:description/>
  <dc:language>en-US</dc:language>
  <cp:lastModifiedBy>Kim Stanton-Cook</cp:lastModifiedBy>
  <dcterms:modified xsi:type="dcterms:W3CDTF">2009-09-04T08:57:35Z</dcterms:modified>
  <cp:revision>12</cp:revision>
  <dc:subject/>
  <dc:title>Slide 1</dc:title>
</cp:coreProperties>
</file>